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42A3-A8BC-4FAC-A1FD-92A70D054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C6A3-1344-4C56-A204-31103FB9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E336-1B0C-4CC0-8601-C50A8E3D7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AE92-0E3A-40E2-9538-B54579C17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091B-EACF-427E-8885-467E76AA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73A4-B0EA-4F64-BDA3-A59F20E7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86DC-3F3D-4593-894A-8D5A6BC5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E72D-28FB-4D9F-8A6B-7F11B827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4DA8-6897-4B24-8040-56626FD4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A905-57F9-41D8-AC57-583CE360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7D89-3274-4570-8B64-4B9E250C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C5A1-2862-4B17-B2F9-7CDE4F04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BCD8-CA9D-41D2-88B7-5569C4D04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1 Znej chválospev môj, zne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nej chválospev môj, zn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slávu môjho Pán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ev naplň celú z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sajte nebesá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uč piesne jasavý tó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nej z večera i z rán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ľ Pána z všetkých sí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nám z neba zostúp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chválospev ten zn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 diaľne letí kra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y Božej lásky zve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čul už celý sve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nám z lásky prišiel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spása jediná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 nás sa slávy vzd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š kríž na seba vz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tebe, Pane ná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j ľud vždy vďaku vzdá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z hriechu otroct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ám si nás vykúpi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z lásky navráti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m dcér a synov prá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nádej novú d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 hoden našich chvál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8:54:42Z</dcterms:modified>
  <cp:revision>24</cp:revision>
  <dc:subject/>
  <dc:title>Je veľký náš Pán, on slávy je Kráľ Nech do všetkých strán  spev vrúcnych znie chvál.</dc:title>
</cp:coreProperties>
</file>